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571-A233-46C2-9596-05B0C94D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4D0-AB68-48AA-8296-F22AC0F8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CB7-8F2D-4881-85A4-763865CE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65B-CDFC-48BC-9538-D2232F2E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B2B-BEB9-467F-8E3D-67DBD65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17D-6DDD-442F-8296-8889E28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950-7974-4BAD-BB83-41FD9142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51F-DF34-4AFD-A243-7EF4640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7F9-CE5E-488B-874F-0198F1A8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766-6ECD-4291-962E-6AB0741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E2F-BA0C-4AAD-B2F2-5CBC966B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AB2-2AEE-4CDD-8C3A-09B9604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B394-3BBC-4E0E-9DF8-5D3BEE8B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1143000"/>
            <a:ext cx="53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srael-Jordan Peace Trea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120" y="1905120"/>
            <a:ext cx="90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eaty of Peace between the State of Israel and the Hashemite Kingdom of Jord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586320" cy="286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98960" y="2362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0600" y="22860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itical Leaders invol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440" y="762120"/>
            <a:ext cx="435204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ime Minister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itzhak Ra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fth prime minister of Isra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on the Nobel Peace Prize with Shim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eres and Yasser Araf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ing Hussein I of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ign: August 11 1952-February 7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orked to achieve peace betw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Jordan and Israel as well as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srael and Palestin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Bill Clin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42nd President of the United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moted peace between Israel and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267440" cy="312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74120" y="5011560"/>
            <a:ext cx="50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King Hussein I shaking hands with Yitzhak Rabi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ccompanied by Bill Clin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520" y="51264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s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9800" y="1235160"/>
            <a:ext cx="923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igning took place on October 26, 1994.  It occurred at the Arava Va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in Israel, near Jord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440" y="2286000"/>
            <a:ext cx="90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igning made Jordan the second Arab country to normalize re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th Israel, Egypt being the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920" y="3179880"/>
            <a:ext cx="868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ing Hussein and Yitzhak Rabin signed the document, Bill Clinton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witn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4044960"/>
            <a:ext cx="820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treaty is composed of a Preamble, thirty articles, five annex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d agreed min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520" y="585720"/>
            <a:ext cx="744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rael and Jordan did not have good relations from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laration if the State of Israel in 1948 until the treaty w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gned in 19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080" y="1905120"/>
            <a:ext cx="912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.S. President Bill Clinton persuaded King Hussein to negotiate peac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gn a treaty with Isra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6920" y="2747880"/>
            <a:ext cx="910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July 1994, a public meeting was held at the White House, where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nister of Jordan declared an “end to the age of wars” and Shimon P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aid that “the moment of peace has arrived.”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6720" y="4017960"/>
            <a:ext cx="90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Treaty was signed October 26, 1994 in the Arava Valle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rael.  It was signed by Prime Minister Yitzhak Rabin and Prime Mi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bdelsalam al-Maja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800" y="5246640"/>
            <a:ext cx="896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igning was witnessed by President Bill Clinton and U.S. Secretar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e Warren Christop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040" y="531720"/>
            <a:ext cx="90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Israeli Public embraced the treaty and looked forward to the histo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men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800" y="1600200"/>
            <a:ext cx="833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gypt approved of the agreement and Syria did not acknowledg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200" y="2438280"/>
            <a:ext cx="909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zbollah disapproved of the treaty and shot rockets into Northern Isr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 minutes before the sig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35320" y="373392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were 6 main principles to the trea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82680" y="4419720"/>
            <a:ext cx="282744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urity and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rusa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lestinian Refug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280" y="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c4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64440" y="193680"/>
            <a:ext cx="91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treaty guaranteed Jordan water from the Jordan and Yarmouk Ri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800" y="747720"/>
            <a:ext cx="75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t also demarcated Jordan’s border’s clearly for the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6162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71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9080" y="533520"/>
            <a:ext cx="9231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1:  Who signed the Trea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2:  From which rivers does the treaty say Jorda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t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3:  How did Israelis react to the trea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4:  How did Arab organizations re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estion 5:  Which country did not acknowledge the trea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47800" y="584280"/>
            <a:ext cx="72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this shape into something that is related to the trea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2440" y="533520"/>
            <a:ext cx="833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allenge:  Draw a map of Israel and indicate wher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ordan Riv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6:40Z</dcterms:created>
  <dc:creator>Tamar Willis</dc:creator>
  <dc:description/>
  <dc:language>en-US</dc:language>
  <cp:lastModifiedBy>Tamar Willis</cp:lastModifiedBy>
  <dcterms:modified xsi:type="dcterms:W3CDTF">2010-09-23T01:27:48Z</dcterms:modified>
  <cp:revision>7</cp:revision>
  <dc:subject/>
  <dc:title>PowerPoint Presentation</dc:title>
</cp:coreProperties>
</file>